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269C-E574-4F74-8D58-E04611C1E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DEAA-5CE2-420E-8027-4AE5DB2B3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E30B-8963-418D-AF34-C7C48E32A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7404-8C55-48EF-B77D-752FCAEBB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540F-16C3-4AE9-89CA-BFFEEFA7F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7757-0529-4CF8-AE4B-5BC29C607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8CF2-00CE-4B86-9069-41B01C0FF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FADD-8572-469D-B994-D8D7407D2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5FDE-AC30-42F2-ADA4-3015B7CDC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3DBE-B6B7-46C8-A767-A2D45BFC1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8D1E-6294-4C60-8892-79EB92526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830A-9DBE-4C20-8AAD-4E6C629D3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1178-0DC1-44E7-ACCB-FFB28E320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C6A4-EF33-48E1-92E4-F9C000476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A62D-8828-4166-9DB9-E589D3FAA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AC1B-72E9-4339-94DC-729B6BF56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DFF1-D8D9-419D-9F1F-FA0AAA18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B086-EA88-4687-8A39-4B3C4D67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DF0A-F6F5-4B00-BB60-B52C3C0E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538-B038-45EF-8D95-88F85688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508E-9D5F-4566-B400-652AFD8D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1AD3-C92C-43F1-B95B-40DD09AA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478F-9D70-4F96-A65C-12336FEE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373-7FBE-431B-B0AC-D7A650BF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044A-1E67-4AD1-8F54-6864B631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2C1-5882-4C18-A1E0-744230EC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9B2-D0B6-4E1A-A370-D3C36767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A79-10B9-44CE-9D04-18C5644D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B961-56BD-4602-846B-C29B7872D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will compare and contrast various forms of governme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2362320" y="1066680"/>
            <a:ext cx="4572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S6CG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cratic Gover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04920" y="1219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a form of government in which the supreme power is retained by the people, but which is usually exercised indirectly through a system of representation and delegated authority periodically renew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57200" y="3886200"/>
            <a:ext cx="2209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ord “democracy” comes from two Greek words: “demos” meaning “people” and “kratos” meaning “power” or “authority.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unclesam_democracy"/>
          <p:cNvPicPr/>
          <p:nvPr/>
        </p:nvPicPr>
        <p:blipFill>
          <a:blip r:embed="rId1"/>
          <a:stretch/>
        </p:blipFill>
        <p:spPr>
          <a:xfrm>
            <a:off x="2895480" y="2209680"/>
            <a:ext cx="3571920" cy="21430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4648320" y="53341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3505320" y="4724280"/>
            <a:ext cx="5333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e United States has had the same type of government for more than 200 years. It’s called a “representative democracy.” Among the nations of the world, it is unusual for a system of government to last so l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6705720" y="24382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When citizens directly participate in government by voting, it’s called democ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80880" y="152388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cr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505320" y="152388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garc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6629400" y="152388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cr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13716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304920" y="3124080"/>
            <a:ext cx="205740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erson has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137160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152280" y="4876920"/>
            <a:ext cx="23623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opl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ight to say 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vernment d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449568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769608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3124080" y="3124080"/>
            <a:ext cx="27432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mall group of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ll the authorit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based on w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>
            <a:off x="449568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3200400" y="4952880"/>
            <a:ext cx="25146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 few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right to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6400800" y="3124080"/>
            <a:ext cx="251460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ople el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tives w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uthority to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s for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960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6400800" y="5029200"/>
            <a:ext cx="24382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eople have a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ay wha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d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Describe the two predominate forms of democratic governments: parliamentary and presidential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liamentary Gover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MCj01577570000[1]"/>
          <p:cNvPicPr/>
          <p:nvPr/>
        </p:nvPicPr>
        <p:blipFill>
          <a:blip r:embed="rId1"/>
          <a:stretch/>
        </p:blipFill>
        <p:spPr>
          <a:xfrm>
            <a:off x="3505320" y="4648320"/>
            <a:ext cx="1809720" cy="1647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MCj04059060000[1]"/>
          <p:cNvPicPr/>
          <p:nvPr/>
        </p:nvPicPr>
        <p:blipFill>
          <a:blip r:embed="rId2"/>
          <a:stretch/>
        </p:blipFill>
        <p:spPr>
          <a:xfrm>
            <a:off x="838080" y="4267080"/>
            <a:ext cx="1346400" cy="187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MCj04059120000[1]"/>
          <p:cNvPicPr/>
          <p:nvPr/>
        </p:nvPicPr>
        <p:blipFill>
          <a:blip r:embed="rId3"/>
          <a:stretch/>
        </p:blipFill>
        <p:spPr>
          <a:xfrm>
            <a:off x="3733920" y="1905120"/>
            <a:ext cx="1496880" cy="19954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28600" y="8380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litical system in which the legislature (parliament) selects the government - a prime minister, premier, or chancellor along with the cabinet ministers - according to party strength as expressed in elections; by this system, the government acquires a dual responsibility: to the people as well as to the parlia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 flipH="1">
            <a:off x="2209320" y="5410080"/>
            <a:ext cx="121932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5334120" y="5486400"/>
            <a:ext cx="144756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0" descr="MCj04396120000[1]"/>
          <p:cNvPicPr/>
          <p:nvPr/>
        </p:nvPicPr>
        <p:blipFill>
          <a:blip r:embed="rId4"/>
          <a:stretch/>
        </p:blipFill>
        <p:spPr>
          <a:xfrm>
            <a:off x="6781680" y="4952880"/>
            <a:ext cx="1905120" cy="1354320"/>
          </a:xfrm>
          <a:prstGeom prst="rect">
            <a:avLst/>
          </a:prstGeom>
          <a:ln w="0">
            <a:noFill/>
          </a:ln>
        </p:spPr>
      </p:pic>
      <p:sp>
        <p:nvSpPr>
          <p:cNvPr id="127" name="Line 22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6705720" y="6019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inet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4"/>
          <p:cNvSpPr/>
          <p:nvPr/>
        </p:nvSpPr>
        <p:spPr>
          <a:xfrm>
            <a:off x="685800" y="60958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e Minister: Head of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3200400" y="3962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en: Head of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3809880" y="6248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7"/>
          <p:cNvSpPr/>
          <p:nvPr/>
        </p:nvSpPr>
        <p:spPr>
          <a:xfrm>
            <a:off x="6248520" y="31240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e majority party controls the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idential Gover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85800" y="1295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ystem of government where the executive branch exists separately from a legislature (to which it is generally not accountabl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3" descr="MCj01743270000[1]"/>
          <p:cNvPicPr/>
          <p:nvPr/>
        </p:nvPicPr>
        <p:blipFill>
          <a:blip r:embed="rId1"/>
          <a:stretch/>
        </p:blipFill>
        <p:spPr>
          <a:xfrm>
            <a:off x="2590920" y="1981080"/>
            <a:ext cx="4267080" cy="4256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6"/>
          <p:cNvSpPr/>
          <p:nvPr/>
        </p:nvSpPr>
        <p:spPr>
          <a:xfrm>
            <a:off x="228600" y="6172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e three branches of the U.S. government check and balance each othe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6172200" y="2057400"/>
            <a:ext cx="2362320" cy="914400"/>
          </a:xfrm>
          <a:prstGeom prst="wedgeEllipseCallout">
            <a:avLst>
              <a:gd name="adj1" fmla="val -73657"/>
              <a:gd name="adj2" fmla="val 30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elected by the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457200" y="2895480"/>
            <a:ext cx="1752480" cy="1219320"/>
          </a:xfrm>
          <a:prstGeom prst="wedgeEllipseCallout">
            <a:avLst>
              <a:gd name="adj1" fmla="val 72643"/>
              <a:gd name="adj2" fmla="val 33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’re elected by the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0"/>
          <p:cNvSpPr/>
          <p:nvPr/>
        </p:nvSpPr>
        <p:spPr>
          <a:xfrm>
            <a:off x="6019920" y="4724280"/>
            <a:ext cx="2819160" cy="1447920"/>
          </a:xfrm>
          <a:prstGeom prst="wedgeEllipseCallout">
            <a:avLst>
              <a:gd name="adj1" fmla="val -22240"/>
              <a:gd name="adj2" fmla="val -76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appointed by the president with the approval of cong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liamentary vs. Presidentia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mocra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57200" y="1447920"/>
            <a:ext cx="3429000" cy="685800"/>
          </a:xfrm>
          <a:prstGeom prst="rect">
            <a:avLst/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liamenta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5181480" y="1447920"/>
            <a:ext cx="3124440" cy="6858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identi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ounded Rectangle 5"/>
          <p:cNvSpPr/>
          <p:nvPr/>
        </p:nvSpPr>
        <p:spPr>
          <a:xfrm>
            <a:off x="380880" y="2286000"/>
            <a:ext cx="342900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ining of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le 6"/>
          <p:cNvSpPr/>
          <p:nvPr/>
        </p:nvSpPr>
        <p:spPr>
          <a:xfrm>
            <a:off x="380880" y="3276720"/>
            <a:ext cx="35053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ve branch 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islative branch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ounded Rectangle 7"/>
          <p:cNvSpPr/>
          <p:nvPr/>
        </p:nvSpPr>
        <p:spPr>
          <a:xfrm>
            <a:off x="380880" y="4419720"/>
            <a:ext cx="35053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liament elects the head of government; head can be voted out by 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ounded Rectangle 8"/>
          <p:cNvSpPr/>
          <p:nvPr/>
        </p:nvSpPr>
        <p:spPr>
          <a:xfrm>
            <a:off x="380880" y="5562720"/>
            <a:ext cx="35053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tical parties are strong; the opposition party is important to control of the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ounded Rectangle 9"/>
          <p:cNvSpPr/>
          <p:nvPr/>
        </p:nvSpPr>
        <p:spPr>
          <a:xfrm>
            <a:off x="5257800" y="2286000"/>
            <a:ext cx="30481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ion of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ounded Rectangle 10"/>
          <p:cNvSpPr/>
          <p:nvPr/>
        </p:nvSpPr>
        <p:spPr>
          <a:xfrm>
            <a:off x="5257800" y="3429000"/>
            <a:ext cx="312408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 separation between executive and legislative bra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ounded Rectangle 11"/>
          <p:cNvSpPr/>
          <p:nvPr/>
        </p:nvSpPr>
        <p:spPr>
          <a:xfrm>
            <a:off x="5257800" y="4419720"/>
            <a:ext cx="312408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vernment’s executive  (the President) is separate from Con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2"/>
          <p:cNvSpPr/>
          <p:nvPr/>
        </p:nvSpPr>
        <p:spPr>
          <a:xfrm>
            <a:off x="5257800" y="5562720"/>
            <a:ext cx="312408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tical parties have less of a role in the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1905120" y="2286000"/>
            <a:ext cx="50292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200400" y="60958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by Debra Harring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Describe the ways government systems distribute power: unitary, confederation, and federal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ary Gover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57200" y="548640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reat majority of all the world’s nation-states are unitary systems, including Belgium, Bulgaria, France, Great Britain, The Netherlands, Japan, Poland, Romania, the Scandinavian countries, Spain, and many of the Latin-American and African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257800" y="1981080"/>
            <a:ext cx="3429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 unitary government is what Britain was during the American Revolution; We were a nation united under control of one rule. There were no separate states creating their own laws or taxes, just the rule of the government over the entire population.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52280" y="12952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ll the power to decide anything rests in a central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MPj04024210000[1]"/>
          <p:cNvPicPr/>
          <p:nvPr/>
        </p:nvPicPr>
        <p:blipFill>
          <a:blip r:embed="rId1"/>
          <a:stretch/>
        </p:blipFill>
        <p:spPr>
          <a:xfrm>
            <a:off x="685800" y="2362320"/>
            <a:ext cx="3902040" cy="2600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609480" y="4952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Buckingham Palace, Great Brit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ederation Gover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990720"/>
            <a:ext cx="2895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 union by compact or treaty between states, provinces, or territories, that creates a central government with limited powers; the states retain supreme authority over all matters except those few things delegated to the central governmen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2895480" y="632448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e original 13 U.S. Colonies formed a Confedera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4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556236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 Gover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52280" y="1295280"/>
            <a:ext cx="883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m of government in which sovereign power is divided - usually by means of a constitution - between a central authority and a number of constituent regions (states, colonies, or provinces) so that each region retains some management of its internal affairs; differs from a confederacy because the central government has influence directly upon both individuals as well as upon the regional un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MCj01495110000[1]"/>
          <p:cNvPicPr/>
          <p:nvPr/>
        </p:nvPicPr>
        <p:blipFill>
          <a:blip r:embed="rId1"/>
          <a:stretch/>
        </p:blipFill>
        <p:spPr>
          <a:xfrm>
            <a:off x="4267080" y="3200400"/>
            <a:ext cx="3143520" cy="21272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533520" y="3124080"/>
            <a:ext cx="266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f a service or responsibility is not listed in the constitution for the national government to do, then it is up to the state to provid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429000" y="57150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ample: police, fire, hospitals, education, roads, voting, etc. are the responsibility of the states to fund and ope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880" y="1447920"/>
            <a:ext cx="2362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429000" y="1447920"/>
            <a:ext cx="2514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553080" y="1447920"/>
            <a:ext cx="2286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d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152388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57200" y="3124080"/>
            <a:ext cx="22096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rests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3124080" y="3124080"/>
            <a:ext cx="3048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ment amo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s/regions create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central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4724280" y="236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47242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3352680" y="4724280"/>
            <a:ext cx="259092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government h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ontrol ove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s/reg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769608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6477120" y="3124080"/>
            <a:ext cx="251460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is div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the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a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s/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769608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6324480" y="5105520"/>
            <a:ext cx="266724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government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control ove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s/reg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Explain how governments determine citizen participation: autocratic, oligarchic, and democratic.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cratic Gover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MCPE03901_0000[1]"/>
          <p:cNvPicPr/>
          <p:nvPr/>
        </p:nvPicPr>
        <p:blipFill>
          <a:blip r:embed="rId1"/>
          <a:stretch/>
        </p:blipFill>
        <p:spPr>
          <a:xfrm>
            <a:off x="3657600" y="3962520"/>
            <a:ext cx="1706400" cy="17841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0" y="114300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In an autocratic government, one person or group holds all the power, without the participation, or sometimes even the consent, of the peo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8600" y="373392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ord “autocracy,” the opposite of democracy, comes from the Greek words: “autos” meaning “self” and “kratos” meaning “power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6324480" y="3886200"/>
            <a:ext cx="1824120" cy="18241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>
            <a:off x="3581280" y="57913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bsolute Mon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248520" y="57913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ilitary Dictat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6553080" y="2438280"/>
            <a:ext cx="2438640" cy="838440"/>
          </a:xfrm>
          <a:prstGeom prst="wedgeRoundRectCallout">
            <a:avLst>
              <a:gd name="adj1" fmla="val -19203"/>
              <a:gd name="adj2" fmla="val 13674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will do exactly what I s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3124080" y="2362320"/>
            <a:ext cx="2971800" cy="1143000"/>
          </a:xfrm>
          <a:prstGeom prst="wedgeRoundRectCallout">
            <a:avLst>
              <a:gd name="adj1" fmla="val 1814"/>
              <a:gd name="adj2" fmla="val 90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have compete control over everyone and everyth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igarchic Gover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MCj04363050000[1]"/>
          <p:cNvPicPr/>
          <p:nvPr/>
        </p:nvPicPr>
        <p:blipFill>
          <a:blip r:embed="rId1"/>
          <a:stretch/>
        </p:blipFill>
        <p:spPr>
          <a:xfrm>
            <a:off x="5029200" y="2514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MCj04396120000[1]"/>
          <p:cNvPicPr/>
          <p:nvPr/>
        </p:nvPicPr>
        <p:blipFill>
          <a:blip r:embed="rId2"/>
          <a:stretch/>
        </p:blipFill>
        <p:spPr>
          <a:xfrm>
            <a:off x="3429000" y="2819520"/>
            <a:ext cx="5181480" cy="3686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228600" y="11430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a government in which control is exercised by a small group of individuals whose authority generally is based on wealth or powe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80880" y="3886200"/>
            <a:ext cx="19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ord oligarchy is from the Greek for "few" and "rule"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00:32:10Z</dcterms:created>
  <dc:creator>Harrington</dc:creator>
  <dc:description/>
  <dc:language>en-US</dc:language>
  <cp:lastModifiedBy>Test Apps1</cp:lastModifiedBy>
  <dcterms:modified xsi:type="dcterms:W3CDTF">2009-09-16T14:47:31Z</dcterms:modified>
  <cp:revision>5</cp:revision>
  <dc:subject/>
  <dc:title>SS6CG1 </dc:title>
</cp:coreProperties>
</file>